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136-D18C-4FA5-90F4-BE5D8D9C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04C-046A-4EB0-8952-3F49684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1DB-7198-4E23-8F9F-5BDC864D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241-A959-42CB-9B68-8D61D822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8281-DC4F-43E8-BA37-4DACDF8E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5357-EE53-4D01-B800-A8D91103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E62A-2268-41F3-8379-FC3D408F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CF77-2259-4E3A-8E99-CE7300F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B2A1-05DF-44C2-9D3A-C22D6671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B9A-1B3F-4FE2-9889-AF42CC6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EE5B-B2BD-47EA-9FE7-C2D7972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9A5-50A5-4E14-87F9-3A27884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B90-4F85-45C1-8F5B-EEFD57F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4B31-C2A5-4533-B4A1-FBD97A2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E05E-8F97-49F3-89D4-3A56A845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577D-9775-41E6-9AAD-B6F4EDB1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762B-A738-4107-8906-967BBD0C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304-7D10-4A09-8E9B-DD95E00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FB6-AE89-48A7-A3A0-06B4EC5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31A-52C9-4038-9171-C56C8608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7B7-960F-4851-BA85-9C8787FC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3F6-201A-4E02-B015-E475666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9AE-9981-486E-9600-EB716E1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F41-C35E-4864-A38C-B4A46E1F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310-2ACD-43D5-97C9-57BEC71F67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7116-DE6B-4D5C-8DA3-8CFE04C759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n time is Engl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t.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, shes gonna write to the institute of industrial engineers in norcross georgia for more inform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dent:Mammal::human: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thetic:Emotion::________:b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 K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.  She’s going to write to the Institute of Industrial Engineers in Norcross, Georgia, for more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ine you were shipwrecked on an island. What do you think you would need to surv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ost Dangerous Ga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. 2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09:01Z</dcterms:created>
  <dc:creator>student</dc:creator>
  <dc:description/>
  <dc:language>en-US</dc:language>
  <cp:lastModifiedBy>student</cp:lastModifiedBy>
  <dcterms:modified xsi:type="dcterms:W3CDTF">2010-09-03T15:27:05Z</dcterms:modified>
  <cp:revision>2</cp:revision>
  <dc:subject/>
  <dc:title>Fun time is English</dc:title>
</cp:coreProperties>
</file>